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CE77-5981-4DB0-8739-5B72E9E79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276-1BE1-4179-84D1-07A50868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018-69AA-4526-B826-75062E66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D77-67F8-4728-AD96-336E2ADB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759-3171-4F62-BB1C-4CE5AFB5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9EA-86AE-480D-8457-31DC3D08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CC7-E430-4A04-8F08-F39EA8E7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879-CFB1-493C-8542-935F1F9B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EA7-A0D6-4E75-BE73-122779D9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6C0-7153-43AC-BB33-D35DEC0D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FE0-2EF8-47F7-8CE0-5587D1F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726-9607-4A7E-B3A0-0C706387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8D5-0449-4B51-B302-337CC1CF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5B2D-35F3-4C8B-B63C-86DC7B52C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laws%20of%20exponents.ppt" TargetMode="External"/><Relationship Id="rId2" Type="http://schemas.openxmlformats.org/officeDocument/2006/relationships/hyperlink" Target="file:///laws%20of%20exponen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E&amp;D"/>
          <p:cNvPicPr/>
          <p:nvPr/>
        </p:nvPicPr>
        <p:blipFill>
          <a:blip r:embed="rId1"/>
          <a:stretch/>
        </p:blipFill>
        <p:spPr>
          <a:xfrm>
            <a:off x="304920" y="225360"/>
            <a:ext cx="86104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715000" cy="4397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7"/>
          <p:cNvSpPr/>
          <p:nvPr/>
        </p:nvSpPr>
        <p:spPr>
          <a:xfrm>
            <a:off x="228600" y="685800"/>
            <a:ext cx="3733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6858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-95400" y="2590920"/>
            <a:ext cx="93348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Exponential Functions are written in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 = ab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= consta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= ba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 =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558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working with exponential equations,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Laws of Exponent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hold 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1000" y="1295280"/>
                <a:ext cx="3591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3657600" y="1295280"/>
                <a:ext cx="3068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6553080" y="1295280"/>
                <a:ext cx="15670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8153280" y="1447920"/>
                <a:ext cx="58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3"/>
              <p:cNvSpPr txBox="1"/>
              <p:nvPr/>
            </p:nvSpPr>
            <p:spPr>
              <a:xfrm>
                <a:off x="1089000" y="434340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4"/>
              <p:cNvSpPr txBox="1"/>
              <p:nvPr/>
            </p:nvSpPr>
            <p:spPr>
              <a:xfrm>
                <a:off x="4572000" y="419112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609480" y="5410080"/>
                <a:ext cx="29941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657600" y="5486400"/>
                <a:ext cx="2612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6248520" y="5410080"/>
                <a:ext cx="1904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18"/>
          <p:cNvSpPr/>
          <p:nvPr/>
        </p:nvSpPr>
        <p:spPr>
          <a:xfrm>
            <a:off x="8077320" y="1371600"/>
            <a:ext cx="761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248520" y="5410080"/>
            <a:ext cx="190476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914400" y="502920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1371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3505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5168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952560" y="510552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3"/>
          <p:cNvGraphicFramePr/>
          <p:nvPr/>
        </p:nvGraphicFramePr>
        <p:xfrm>
          <a:off x="457200" y="1752480"/>
          <a:ext cx="25336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25336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2971800" y="1828800"/>
          <a:ext cx="5867280" cy="444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586728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0"/>
          <p:cNvSpPr/>
          <p:nvPr/>
        </p:nvSpPr>
        <p:spPr>
          <a:xfrm>
            <a:off x="647640" y="30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4800600" y="1295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0492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8600" y="91440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lot (exp(x),x=-5..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3:16:48Z</dcterms:created>
  <dc:creator>Chester Area School</dc:creator>
  <dc:description/>
  <dc:language>en-US</dc:language>
  <cp:lastModifiedBy>RomaK</cp:lastModifiedBy>
  <dcterms:modified xsi:type="dcterms:W3CDTF">2015-09-04T07:39:39Z</dcterms:modified>
  <cp:revision>38</cp:revision>
  <dc:subject/>
  <dc:title>PowerPoint Presentation</dc:title>
</cp:coreProperties>
</file>